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54C-B2EB-43EA-8079-5E3421AB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B26-912C-4BA7-AB1C-BB5067F5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AB0-D465-4134-8B4B-EF55C482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1C9-75DF-470C-AD18-5FAC2B07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0891-F8C4-4925-8463-DC76AF84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1B1-09F2-4EE8-AE4E-CDBE0C35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CBA-B937-4AD6-BAAB-2F5323FC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87E-3A1F-4455-9739-ABC9715E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B2D-C3A0-46D0-A7E5-EF5617F2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C43-D4EA-4DCB-B201-400E2ABB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A9F-847E-4568-B986-162F32AD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E459-42D0-4EDE-9FB9-FF21967F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F09B-53DB-4545-90FA-EABDEA1FC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Opportunistic Infections in HIV Pat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August 31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a of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42483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cidence of diseases that also affect normal ho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monary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uemococcal 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vical Dys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8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5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-35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pes Zoster (Shing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05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cystis Carinii Pnue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sporid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Multifocal Leukencephalopa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27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ften multiple diagnoses present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 PCP, CMV, KS, Co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% of bacterial pneumonias also have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PCP pneumonia complicated by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for second etiology if patient not im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most common opportunistic infections (OIs): Dx and R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mmune reconstitution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rimary OI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de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 -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 -T cells &lt;100 and +Toxo t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-  T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– INH x 9 months if PPD &gt;5mm or quantiferon-TB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eron not approved for use in immunocompri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7 HIV patients in New Orleans given both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% did not return for TST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positive by quantif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ve by 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eron is more sensitive but without a gold standard for latent TB infection cannot say whether it is more or less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study showed similar positive test result rates but a better correlation with risk factors for quantiferon vs. TST suggesting quantiferon is a more specific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Given the high risk for progression to active disease in HIV-infected persons, any HIV-infected person with reactivity on any of the current LTBI diagnostic tests should be considered infected with </a:t>
            </a:r>
            <a:r>
              <a:rPr b="0" i="1" lang="en-US" sz="2800" spc="-1" strike="noStrike">
                <a:solidFill>
                  <a:srgbClr val="000000"/>
                </a:solidFill>
                <a:latin typeface="AGaramondPro-Italic"/>
              </a:rPr>
              <a:t>M. tuberculo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----CDC guidelines, 3/24/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trength has similar efficacy with fewer adverse reactions (I.e. late onset rash, hepatotoxicity, f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-50% of AIDS pts. D/c Septra DS due to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Desensit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solized pentamadine 300mg q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vaquone 1500mg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rosolized pentamidine bo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Desensitis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vaquone 15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thromax 600mg x 2 tabs qweek reduces infection rate 5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eems to reduce risk of 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 Opportunistic Inf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yo male with poor adherence to m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 + since at least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pisode thrush March,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: white patches on buccal m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ed with fluconazole, sx re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t thrush July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: probably esophage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x resolve in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odynophagia January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itraconazole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weeks l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ynophagia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ush persists, resolved on re-exam Marc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, 2006-March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rent episodes of thrush and esophageal candidiasis due to non-adherence to in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pisode improves when patient is adh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thrush despite stated ad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, 2007  T Cells 5 Weight 121# (baseline 198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current odynophagia despite adherence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tted for IV Capsofun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markedly improve in 24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gal Cx: Candida Alb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ies: resistant to fluconazole, itraconazole and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2007-Augus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extensive thru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 on 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 -&gt;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008:  moves in with sisters after hospital stay, adherence improves marke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009: T cells 77, thrush much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9: T cells 239, thrush re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ttage cheese pla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palate, buccal mucosa, tons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removed with a tongue 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rythematous form without exu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27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72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y opening m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2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frequent than you would expect, unless T Cells&lt;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Fluconazole 200mg qweek for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ort Studies in pre-triple therapy 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Cari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tomega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- second epis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oplasmi gond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lso has thrush (positive predictive value is 90%, but 18% of esophageal candidiasis presents without thru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mpirically x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etter, scope to r/o other c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V, HSV, idopathic esophageal ulcers, lymph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prophylax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conazole 100-200mg qd until sx re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for resistant Cand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ose fluconazole (400-800 mg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ra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Capsofun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Amphoteri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Who gets i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prophylaxis highly efficat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if 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dious o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 weeks of progressive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sweats, weight loss, fatigue, nonproductive c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osternal dis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ng exam usually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: bilateral diffuse interstitial infiltrate in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H&gt;400 in 6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2&lt;75 in 6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81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re P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http://www.mevis.de/~hhj/Lunge/ima/InfPcPEmphCTThA53_4.JPG"/>
          <p:cNvPicPr/>
          <p:nvPr/>
        </p:nvPicPr>
        <p:blipFill>
          <a:blip r:embed="rId1"/>
          <a:stretch/>
        </p:blipFill>
        <p:spPr>
          <a:xfrm>
            <a:off x="2590920" y="1371600"/>
            <a:ext cx="413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ed sputum x 3 in early AM (all on same day): 50-7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nchoscopy (+/-Bx): 80-9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R based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llect sputums or go directly to bro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gin before Dx confirmed without affecting diagnostic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isone 40mg BID x 5d. Then taper over total 21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15mgTMP/kg/d IV div. Q8h x 21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to po when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first dose prednisone 15-30 minutes before Sep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7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: Crypto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: street drug over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: sepsis, pneumonia and massive hemopt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: metastatic prostate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: CVA, laryngeal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: PML (progressive multifocal leukencephalopat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: bacterial pneumonia, ETOH cirrhosis, w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 to HIV patient with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 Cell 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g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in typical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itary in 50-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only if CXR suspicious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un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reat empirically for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pneumoniae, H. Flu most common (encapsul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onsider: Non-Hodgkin’s Lymph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l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as lower lobe disease, adenopathy, miliary or interstitial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ary in only 2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all abnormal CXR until TB rul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definitive diagnosis when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cidiomycosis, Cryptococcus, Aspergil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V, KS, M.TB, M. Kansas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Treat PCP empir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d physicians make wrong clinical diagnosis in 20% of suspected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treated empirically have higher risk of death than patients who underwent bro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ncidence of rash toward end of 21 d. Septr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nctive steroids may exacerbate other 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tiologies left un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re above 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of CMV disease is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less, progressive visual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lateral blurry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escing white perivascular exu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ed by hemorrh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hfire pattern or tomato and cheese pi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 Kansasii immune reconstitution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obacterium Avium Complex (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coccal Fungemia,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plasm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gancyclovir 900m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D x 21 days, then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se effec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openia ANC&lt;500 in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: nausea, vomiting, abdominal pain or dia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 addition to systemic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 implanted depo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for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t 6 months if still not immune reconstit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night sw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culture usually positive if symptomatic but takes weeks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ed to know sooner then do bone marrow B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putum culture usually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tool culture may be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thromycin 500mg BID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ambutol 15mg/kg/d +/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fabutin 3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failure rate is high without immune recon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rami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hylaxis simple: Septra and Zithro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TB in pneumonia with T Cells &lt;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treating PCP empir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I’s have declined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’s seen now mostly in 3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iagnosed HIV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n care or not adhering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eople living with 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0"/>
          <p:cNvGraphicFramePr/>
          <p:nvPr/>
        </p:nvGraphicFramePr>
        <p:xfrm>
          <a:off x="304920" y="1600200"/>
          <a:ext cx="8534160" cy="5232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 or iceber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5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Lydia Rodriguez</cp:lastModifiedBy>
  <cp:lastPrinted>2003-02-13T16:33:18Z</cp:lastPrinted>
  <dcterms:modified xsi:type="dcterms:W3CDTF">2009-08-27T18:03:51Z</dcterms:modified>
  <cp:revision>20</cp:revision>
  <dc:subject/>
  <dc:title>Primer on Opportunistic Infections</dc:title>
</cp:coreProperties>
</file>